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900-DAEB-4208-8316-F74D6206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489-4AAA-4F34-B0B4-52626BC8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FA74-457F-4171-8A42-31F92A68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EBC-F13C-4E38-9D01-E3FD1085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2130-FAA8-4D0B-97DA-82D05E95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308-4A27-49D3-A5E7-B5EA0D03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C23-69AC-4D15-A7B7-8BCF0C9C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7575-6A40-4734-B308-D367A11A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1B5-453E-403F-A674-2411F34D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B2C8-28D1-4BD9-ABE7-9A40A60C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6B8-5F58-43EE-8A0C-9A3DBE2D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656-75DF-4BEB-9483-F877A3F3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4CF8-41B7-42B0-972C-1A6EF90CFAD3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8205480" cy="190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0" spc="-1" strike="noStrike">
                <a:solidFill>
                  <a:srgbClr val="000000"/>
                </a:solidFill>
                <a:latin typeface="Calibri"/>
              </a:rPr>
              <a:t>Saint Patrick’s Da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5400" spc="-1" strike="noStrike">
                <a:solidFill>
                  <a:srgbClr val="000000"/>
                </a:solidFill>
                <a:latin typeface="Calibri"/>
              </a:rPr>
              <a:t>Lá Fhéile Pádrai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two Irish reels New Policman and London Lassies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two Irish reels New Policman and London Lassies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5724360" y="333360"/>
            <a:ext cx="3052800" cy="3382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497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211640" y="3284640"/>
            <a:ext cx="2592360" cy="321300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pull dir="l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624720" cy="619596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pull dir="l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11280" y="461880"/>
            <a:ext cx="7993080" cy="59882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4248000" cy="60516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pull dir="l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pull dir="l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417080" cy="59389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pull dir="lu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146560" y="476280"/>
            <a:ext cx="3505320" cy="4681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3529080" cy="53020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ull dir="lu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643280" y="476280"/>
            <a:ext cx="4092840" cy="546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2952720" cy="2862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1042920" y="333360"/>
            <a:ext cx="2808360" cy="3166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l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497800" cy="6264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4067280" y="404640"/>
            <a:ext cx="4105080" cy="3888000"/>
          </a:xfrm>
          <a:prstGeom prst="rect">
            <a:avLst/>
          </a:prstGeom>
          <a:ln w="0">
            <a:noFill/>
          </a:ln>
        </p:spPr>
      </p:pic>
    </p:spTree>
  </p:cSld>
  <p:transition spd="med" advTm="41000">
    <p:pull dir="l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100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haroni"/>
                <a:ea typeface="Aharoni"/>
              </a:rPr>
              <a:t>Saint Patrick’s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Irish Religious festiv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Celebrated March 17</a:t>
            </a:r>
            <a:r>
              <a:rPr b="0" lang="en-IE" sz="3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 of every ye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A holiday named after the Patron Saint of Ireland, Saint Patric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Also known as Paddy’s Day or Patrick’s Da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Celebrated by Irish people or people who have Irish ancestry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30000">
    <p:pull dir="l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haroni"/>
                <a:ea typeface="Aharoni"/>
              </a:rPr>
              <a:t>Saint Patri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267920"/>
            <a:ext cx="5184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Born in Roman Britain in the 4</a:t>
            </a:r>
            <a:r>
              <a:rPr b="0" lang="en-IE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e used a shamrock to explain about the Christian doctrine of the Trinity – The Father, The Son and The Holy Spir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e died on 17</a:t>
            </a:r>
            <a:r>
              <a:rPr b="0" lang="en-IE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 March 461 and is considered as the principal champion of Irish Christian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e also got rid of all the snakes on the island of Ire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2621160" cy="4525920"/>
          </a:xfrm>
          <a:prstGeom prst="rect">
            <a:avLst/>
          </a:prstGeom>
          <a:ln w="0">
            <a:noFill/>
          </a:ln>
        </p:spPr>
      </p:pic>
    </p:spTree>
  </p:cSld>
  <p:transition spd="med" advTm="29000">
    <p:pull dir="l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9528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St. Patrick’s Day is a national holiday for the people of Ire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Everyone is proud to be Irish on this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On St. Patrick’s Day it is a tradition to wear the national colours of green, white and orange, and some shamro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572000" y="620640"/>
            <a:ext cx="3816360" cy="576108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pull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haroni"/>
                <a:ea typeface="Aharoni"/>
              </a:rPr>
              <a:t>Festi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133360"/>
            <a:ext cx="8075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The St. Patrick’s Festival lasts all week in Ireland with different parties held all over the islan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Traditional Irish music and dancing are held in different concert halls and people have the ‘craic’ all wee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1000">
    <p:pull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5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haroni"/>
                <a:ea typeface="Aharoni"/>
              </a:rPr>
              <a:t>St. Patrick’s Day Pa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big event of the week is the St. Patrick’s Day Para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ands, dancers, artistic groups and many more walk throughout the streets on Dublin in this colourful ev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3384720" cy="500040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pull dir="l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3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3198" t="0" r="15959" b="0"/>
          <a:stretch/>
        </p:blipFill>
        <p:spPr>
          <a:xfrm>
            <a:off x="611280" y="260280"/>
            <a:ext cx="7632720" cy="61930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ll dir="l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402000" cy="597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897440" cy="316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4897440" cy="2879640"/>
          </a:xfrm>
          <a:prstGeom prst="rect">
            <a:avLst/>
          </a:prstGeom>
          <a:ln w="0">
            <a:noFill/>
          </a:ln>
        </p:spPr>
      </p:pic>
      <p:pic>
        <p:nvPicPr>
          <p:cNvPr id="61" name="The Galway Girl Feat Mundy (Studio Version)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pull dir="l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70800" cy="5867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ull dir="l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3:22:10Z</dcterms:created>
  <dc:creator>Beca's Notebook</dc:creator>
  <dc:description/>
  <dc:language>en-US</dc:language>
  <cp:lastModifiedBy>Pepe</cp:lastModifiedBy>
  <dcterms:modified xsi:type="dcterms:W3CDTF">2011-03-13T21:46:38Z</dcterms:modified>
  <cp:revision>24</cp:revision>
  <dc:subject/>
  <dc:title>Saint Patrick’s Day</dc:title>
</cp:coreProperties>
</file>